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158413" cy="8701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6F28-A261-4041-955B-DCAE0E9E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47760"/>
            <a:ext cx="91440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2030400"/>
            <a:ext cx="914400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5029200"/>
            <a:ext cx="914400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E0F2-CA97-4268-BE77-64906268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47760"/>
            <a:ext cx="91440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2030400"/>
            <a:ext cx="446220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2030400"/>
            <a:ext cx="446220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5029200"/>
            <a:ext cx="446220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5029200"/>
            <a:ext cx="446220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320-9A3A-4E22-B1BC-55A9F70B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47760"/>
            <a:ext cx="91440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2030400"/>
            <a:ext cx="29440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2030400"/>
            <a:ext cx="29440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2030400"/>
            <a:ext cx="29440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5029200"/>
            <a:ext cx="29440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5029200"/>
            <a:ext cx="29440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5029200"/>
            <a:ext cx="29440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509-F59D-4085-9725-96C6717C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47760"/>
            <a:ext cx="91440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2030400"/>
            <a:ext cx="914400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9880-60F8-4D63-BF51-403DE0C4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47760"/>
            <a:ext cx="91440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2030400"/>
            <a:ext cx="91440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9EE-E559-400A-B92D-D1C73AE2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47760"/>
            <a:ext cx="91440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2030400"/>
            <a:ext cx="44622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2030400"/>
            <a:ext cx="44622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AE2-9B87-4A1F-A450-48E2C0A4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47760"/>
            <a:ext cx="91440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2CD-0992-4C06-B8E0-1F4FF95B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47760"/>
            <a:ext cx="9144000" cy="67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ACF-B07E-4362-B88C-841F94B8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47760"/>
            <a:ext cx="91440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2030400"/>
            <a:ext cx="446220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2030400"/>
            <a:ext cx="44622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5029200"/>
            <a:ext cx="446220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AE20-A53A-4C4A-BB7A-ACD8907B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47760"/>
            <a:ext cx="91440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2030400"/>
            <a:ext cx="44622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2030400"/>
            <a:ext cx="446220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5029200"/>
            <a:ext cx="446220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0450-45A2-4C97-B1ED-73766F8B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47760"/>
            <a:ext cx="91440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2030400"/>
            <a:ext cx="446220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2030400"/>
            <a:ext cx="446220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5029200"/>
            <a:ext cx="914400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B2E-E1ED-4B94-8B2F-60B9AB56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47760"/>
            <a:ext cx="91440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2030400"/>
            <a:ext cx="91440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921800"/>
            <a:ext cx="23702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921800"/>
            <a:ext cx="32162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7921800"/>
            <a:ext cx="23702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1C58-59F9-4CC2-AFC5-05CF81714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image" Target="../media/image42.png"/><Relationship Id="rId13" Type="http://schemas.openxmlformats.org/officeDocument/2006/relationships/image" Target="../media/image42.png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7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30520" y="317520"/>
            <a:ext cx="2514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 - 36"/>
                <a:ea typeface="Arial - 36"/>
              </a:rPr>
              <a:t>Alive: Y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911920" y="-6480"/>
            <a:ext cx="4336920" cy="5813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689280" y="2324160"/>
            <a:ext cx="2086200" cy="2660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422360" y="1301760"/>
            <a:ext cx="2266920" cy="1781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08000" y="12600"/>
            <a:ext cx="1898640" cy="1400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701880" y="4933800"/>
            <a:ext cx="2654640" cy="306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6419880" y="5778360"/>
            <a:ext cx="3771720" cy="2146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72880" y="5511960"/>
            <a:ext cx="3289320" cy="2463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425520" y="5511960"/>
            <a:ext cx="3289320" cy="246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-76320" y="1079640"/>
            <a:ext cx="1524240" cy="2057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444600" y="2793960"/>
            <a:ext cx="3117600" cy="2727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8737560" y="3797280"/>
            <a:ext cx="1422360" cy="1971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01520"/>
            <a:ext cx="3111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 - 36"/>
                <a:ea typeface="Arial - 36"/>
              </a:rPr>
              <a:t>Snow lepar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523880"/>
            <a:ext cx="27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Mush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87320" y="4038480"/>
            <a:ext cx="18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Sp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7640" y="6603840"/>
            <a:ext cx="24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unkn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6489720"/>
            <a:ext cx="24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unkn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07160" y="6642000"/>
            <a:ext cx="1555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 - 36"/>
                <a:ea typeface="Arial - 36"/>
              </a:rPr>
              <a:t>Mo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06840" y="3174840"/>
            <a:ext cx="22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26360" y="507960"/>
            <a:ext cx="2076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 - 36"/>
                <a:ea typeface="Arial - 36"/>
              </a:rPr>
              <a:t>Obam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78560" y="5194440"/>
            <a:ext cx="32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John mc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9840" y="31680"/>
            <a:ext cx="9970920" cy="7863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3360" y="6546960"/>
            <a:ext cx="2540160" cy="1333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6320" y="31680"/>
            <a:ext cx="2539800" cy="1333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7467480" y="6546960"/>
            <a:ext cx="2540160" cy="1333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7429680" y="31680"/>
            <a:ext cx="2539800" cy="1333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63360" y="5238720"/>
            <a:ext cx="2540160" cy="1333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63360" y="3917880"/>
            <a:ext cx="2540160" cy="1333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63360" y="2597040"/>
            <a:ext cx="2540160" cy="1333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63360" y="1289160"/>
            <a:ext cx="2540160" cy="1333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7442280" y="5226120"/>
            <a:ext cx="2539800" cy="1333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7467480" y="2698920"/>
            <a:ext cx="2540160" cy="1333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7454880" y="4019400"/>
            <a:ext cx="2540160" cy="1333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3"/>
          <a:stretch/>
        </p:blipFill>
        <p:spPr>
          <a:xfrm>
            <a:off x="7442280" y="1378080"/>
            <a:ext cx="2539800" cy="1333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22360" y="1206360"/>
            <a:ext cx="6811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ff"/>
                </a:solidFill>
                <a:latin typeface="Arial - 36"/>
                <a:ea typeface="Arial - 36"/>
              </a:rPr>
              <a:t>Species: Sapien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4"/>
          <a:stretch/>
        </p:blipFill>
        <p:spPr>
          <a:xfrm>
            <a:off x="2629080" y="5727600"/>
            <a:ext cx="4910040" cy="2167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73520" y="2717640"/>
            <a:ext cx="20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O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06560" y="7010280"/>
            <a:ext cx="32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John Mc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3840" y="888840"/>
            <a:ext cx="4044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 - 36"/>
                <a:ea typeface="Arial - 36"/>
              </a:rPr>
              <a:t>Domain: Eucary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10400" y="2368440"/>
            <a:ext cx="4336920" cy="5813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412920" y="4178160"/>
            <a:ext cx="2884680" cy="4146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022560" y="2324160"/>
            <a:ext cx="2801880" cy="3728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086600" y="-12600"/>
            <a:ext cx="3117960" cy="2727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-69840" y="2298600"/>
            <a:ext cx="3111480" cy="1812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813200" y="12600"/>
            <a:ext cx="2416320" cy="2362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2508120" y="5524560"/>
            <a:ext cx="3289320" cy="2463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8102520" y="5245200"/>
            <a:ext cx="20433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403440" y="0"/>
            <a:ext cx="4345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 - 36"/>
                <a:ea typeface="Arial - 36"/>
              </a:rPr>
              <a:t>Kingdom: Animali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480" y="2190600"/>
            <a:ext cx="4336920" cy="5813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480" y="-50760"/>
            <a:ext cx="3301920" cy="2473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314880" y="507960"/>
            <a:ext cx="3936960" cy="2057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330800" y="2533680"/>
            <a:ext cx="3352680" cy="2425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311720" y="4902120"/>
            <a:ext cx="4100400" cy="3084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7677000" y="1422360"/>
            <a:ext cx="2324160" cy="3492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7435800" y="-63360"/>
            <a:ext cx="2374920" cy="1765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2463840" y="5549760"/>
            <a:ext cx="17762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760" y="25560"/>
            <a:ext cx="4505400" cy="1962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880" y="64764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24"/>
                </a:solidFill>
                <a:latin typeface="Arial - 36"/>
                <a:ea typeface="Arial - 36"/>
              </a:rPr>
              <a:t>Phylum: Crunchy Cor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2440" y="2089080"/>
            <a:ext cx="4337280" cy="5813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419720" y="3772080"/>
            <a:ext cx="2458800" cy="2458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413240" y="-38160"/>
            <a:ext cx="5057640" cy="3816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6870600" y="3727440"/>
            <a:ext cx="3603600" cy="2717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743200" y="5587920"/>
            <a:ext cx="16239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84600" y="152280"/>
            <a:ext cx="52070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 - 36"/>
                <a:ea typeface="Arial - 36"/>
              </a:rPr>
              <a:t>Subphylum: Vertebra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6480" y="-44280"/>
            <a:ext cx="4337280" cy="5813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305240" y="603360"/>
            <a:ext cx="5808600" cy="3268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8940960" y="4222800"/>
            <a:ext cx="965160" cy="3238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343400" y="3867120"/>
            <a:ext cx="3762360" cy="3943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616120" y="3378240"/>
            <a:ext cx="17226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1520" y="2502000"/>
            <a:ext cx="36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Class: Mam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89760" y="6480"/>
            <a:ext cx="4336920" cy="5813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360" y="-139680"/>
            <a:ext cx="3289320" cy="2463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327480" y="-12600"/>
            <a:ext cx="2757240" cy="1830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270240" y="1765440"/>
            <a:ext cx="2887560" cy="4182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16000" y="2997360"/>
            <a:ext cx="3047760" cy="2666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130880" y="5562720"/>
            <a:ext cx="3238560" cy="2514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8559720" y="3301920"/>
            <a:ext cx="1623960" cy="2239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97080" y="0"/>
            <a:ext cx="1484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 - 36"/>
                <a:ea typeface="Arial - 36"/>
              </a:rPr>
              <a:t>Ba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78240" y="116856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Ho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2452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White tailed d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40080" y="1841400"/>
            <a:ext cx="29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Polar B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521560" y="4533840"/>
            <a:ext cx="186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John Mc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54880" y="7365960"/>
            <a:ext cx="21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Dolph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18320" y="762120"/>
            <a:ext cx="2076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 - 36"/>
                <a:ea typeface="Arial - 36"/>
              </a:rPr>
              <a:t>Obam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5181480"/>
            <a:ext cx="37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Order: Prim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823000" y="-6480"/>
            <a:ext cx="4336920" cy="5813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-25560" y="-63360"/>
            <a:ext cx="5867640" cy="5248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-12600" y="-126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480" y="5645160"/>
            <a:ext cx="3492360" cy="2324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3219480" y="4438800"/>
            <a:ext cx="3492360" cy="232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8534520" y="3543480"/>
            <a:ext cx="1574640" cy="2174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50960" y="3174840"/>
            <a:ext cx="21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Bab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760" y="7302600"/>
            <a:ext cx="187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Lem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251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Red Monkey, Species unkn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30520" y="6680160"/>
            <a:ext cx="523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Weird Monkey, Species Unkn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29480" y="88920"/>
            <a:ext cx="2076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 - 36"/>
                <a:ea typeface="Arial - 36"/>
              </a:rPr>
              <a:t>Obam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78560" y="5283360"/>
            <a:ext cx="31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John Mc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160" y="127080"/>
            <a:ext cx="42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Family: Hominida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75280" y="-44280"/>
            <a:ext cx="4337280" cy="5813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80" y="711360"/>
            <a:ext cx="6308640" cy="4305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560" y="5041800"/>
            <a:ext cx="4174920" cy="2925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184640" y="4800600"/>
            <a:ext cx="2603520" cy="3124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8648640" y="3632040"/>
            <a:ext cx="1552680" cy="2146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52760" y="851040"/>
            <a:ext cx="20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Hu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8400" y="2502000"/>
            <a:ext cx="331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rest unkn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671832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Homo Habi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80040" y="6273720"/>
            <a:ext cx="523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Australopithecus Afaren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64440" y="800280"/>
            <a:ext cx="2076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 - 36"/>
                <a:ea typeface="Arial - 36"/>
              </a:rPr>
              <a:t>Obam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02600" y="5245200"/>
            <a:ext cx="31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John Mc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06440" y="0"/>
            <a:ext cx="340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- 36"/>
                <a:ea typeface="Arial - 36"/>
              </a:rPr>
              <a:t>Genus: H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873760" y="-6480"/>
            <a:ext cx="4336920" cy="5813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645000" y="76320"/>
            <a:ext cx="2133360" cy="1955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27080" y="393840"/>
            <a:ext cx="3479760" cy="3495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467160" y="2013120"/>
            <a:ext cx="2489040" cy="3263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4480" y="3987720"/>
            <a:ext cx="2641320" cy="3073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508960" y="3492360"/>
            <a:ext cx="1657440" cy="22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08:29:24Z</dcterms:created>
  <dc:creator>Administrator</dc:creator>
  <dc:description/>
  <dc:language>en-US</dc:language>
  <cp:lastModifiedBy>Administrator</cp:lastModifiedBy>
  <dcterms:modified xsi:type="dcterms:W3CDTF">2011-06-09T08:29:25Z</dcterms:modified>
  <cp:revision>1</cp:revision>
  <dc:subject/>
  <dc:title>Slide 1</dc:title>
</cp:coreProperties>
</file>